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C63A8-B3F6-4070-AE36-2EFD6E49A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8868D-90D3-4405-95A4-B1BCE33AE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0B74A-4B51-47B2-A1F3-BD571DAA3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E5CE2-84F9-4DEB-8EAC-C890CF740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C6CF2-C1A6-494E-892F-D20EFF4558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6BAA9-9293-4E70-8630-24E77C777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7D176-1B1F-4214-8CCD-7FE9D17CD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382A7-B357-4AFB-8AE5-AD11E240D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12FF2-8341-4593-8A98-68E734C86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F79A6-2A12-4E07-88B6-8F95830E0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50B7A-2F6D-455C-A7EE-9C03FCEC2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83588-CFA7-467E-B2FF-62A73ADE9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B4529-FC80-44F5-A5C1-4E0C253BE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D42C0-12FD-409A-B932-64B8276F3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942F7-52C5-4EE8-882A-01C89671B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D17365-22D9-4F69-960F-51B36F33C9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669F57-49F6-4906-B833-6E4E017C6F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E339F-845B-4187-9AFA-258EDF127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837E4-D195-49EC-8590-BD6E51227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50882-665D-4DDD-94B8-7502E43FE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B4B56-65C1-45F5-8B2A-0FDF6A8DC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893B8-AB84-49EC-B4CC-0C260A069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5FEE0-C1C3-43C5-90E5-87C69F0D6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45A93-F1A5-4B03-8556-60C594EAB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E97A-C07F-49DB-8D3D-B947DCC2419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C463-D555-4A13-AA14-3EA13CE9F5C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3</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chool Accounting System</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fficiency and in school financial practice require a sound system of accounting for income and expenditur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termining whether a company has made a profit or loss, and how much, is fundamental to good business oper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chool Accounting System</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neral principles that may be applied to form the basis for an adequate and effective accounting system in every school:</a:t>
            </a:r>
            <a:endParaRPr b="0" lang="en-US" sz="28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curacy</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leteness and currency</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icity</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iformit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cumbrance Accounting</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vernmental agencies, including state departments of education and local districts, are now required to follow the Governmental Accounting Standards Board’s </a:t>
            </a:r>
            <a:r>
              <a:rPr b="0" i="1" lang="en-US" sz="2400" spc="-1" strike="noStrike">
                <a:solidFill>
                  <a:srgbClr val="003366"/>
                </a:solidFill>
                <a:latin typeface="Arial"/>
              </a:rPr>
              <a:t>Basic Financial Statements</a:t>
            </a:r>
            <a:r>
              <a:rPr b="0" lang="en-US" sz="2400" spc="-1" strike="noStrike">
                <a:solidFill>
                  <a:srgbClr val="003366"/>
                </a:solidFill>
                <a:latin typeface="Arial"/>
              </a:rPr>
              <a:t>.  Encumbrance accounting and the use of computers are examples of important improvements in financial accounting systems in recent years.  Their use has simplified the process of financial recordkeep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cumbrance Accounting</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cumbrance accounting is important to any budgetary system.  It represents a commitment related to unperformed contracts for goods and services.  The issuance of a  purchase order or the signing of a contract would create an encumbran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diting</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ystematic process or procedure for verifying the financial operation of a school district to determine whether property and funds have been or are being used in a legal and efficient wa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covery of fraud and detection of errors wee once the main functions of auditing, but it has other more important functions today, such as its purpose to lend credibility to the financial repor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inds of Audits</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nal – conducted by technically qualified personnel already employed by the distric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te – Periodic audit of local funds to ensure that the law is being observed in their utilization; varies form state to state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ternal – conducted by qualified agencies or individuals  (CP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7:09:43Z</dcterms:created>
  <dc:creator>Cynthia Altemueller</dc:creator>
  <dc:description/>
  <dc:language>en-US</dc:language>
  <cp:lastModifiedBy>AEURY</cp:lastModifiedBy>
  <dcterms:modified xsi:type="dcterms:W3CDTF">2006-01-27T22:14:06Z</dcterms:modified>
  <cp:revision>3</cp:revision>
  <dc:subject/>
  <dc:title>Finance in Education</dc:title>
</cp:coreProperties>
</file>